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explode.wav" ContentType="audio/x-wav"/>
  <Override PartName="/ppt/media/image3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826A-4CBA-47EC-82CC-515E89E9F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4ABD-6F0F-4D9D-BF5B-1D5CC5CF83A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34B6-93CE-4FEF-AA28-4945D9D259A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B22C-1F3D-441E-B965-2BF322C8C16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ED6C-4C8B-40C1-9CDD-C2A539D7856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8C89-6555-4E33-BE39-6F89E398762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9ABE-7814-498C-8A15-D80D0C41C41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5F40-0379-4248-8DF0-270BA7FD1E2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D4C0-1F8F-4691-90DC-6B07FA0BD01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3D6A-7765-4D5B-9DFC-68EDED2D8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4308-DE80-44F9-A6EC-6D0AE6D6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4859-6B1A-4DE2-89CA-CAEF8F9E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13C3-2303-43B1-8DD3-6AE018120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D509-32BE-4892-8085-B342C8E0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0C31-31FB-445F-B415-8DF4BBAD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17D2-0750-480F-9716-30039613E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6168-0E28-403D-8A7F-DC747594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46E3-38BC-484C-888D-84CCA542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3050A-2756-4603-A07F-D238911FE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9EF7-CE1E-4227-8295-0DCACAD4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3C40-0B3F-415A-B538-CC9436DC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387A-251E-4784-A780-C6791B46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7040A-AC82-4FCF-9BF9-67F23985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8DD2-D29B-41A6-9767-50D2B8EF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FE7D-DC6E-4B07-826E-8699608F2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BB896-C86B-4F52-A13E-03AA06AB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838B1-B8B0-42C6-934E-AD08E3283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AB5A2-DF70-4BFC-A2C4-2FEEE338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9D655-188F-471C-A726-535F74EF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34D47-11B9-4679-B2EB-218E2860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094A3-FEC2-4736-BEE6-A971DAFB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0FF0-1FA6-43D4-B40C-AF4DA147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81F51-8899-4339-8C76-BCAB1821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5E244-4B9A-4BE9-AF2B-F30F6E06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319FC-387F-48A5-B3F0-0588DB7FF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B9D48-AC1A-4C5D-BFF1-0AB0ADE1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14BC9-3D4E-423C-BA49-726D3247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30E60-4443-493F-AB1F-8FA3AB14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ED302-F160-4F4A-992C-8529114D7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A8065-DC1F-4932-9AB6-0652E4A8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A1483-8BF0-4019-AD63-3E82756F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94764-F0DD-41F3-9D3F-08358920A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FAD8-A0AE-494D-9AC2-224923B0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3FFFE-2DB7-4235-98C9-68C275FE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81271-0C77-4CE5-8124-72036DED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3D14C-42AF-4DEE-9AE0-0333F53B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799B3-677F-4F06-82FA-C46AF3F9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460B3-6B98-4C33-A346-55BC48E2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AB495-54BB-4936-82EB-468D84A4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AF57D-038B-4633-89FC-45BB2EF2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39B24-2695-48A8-9C67-9DAE2D79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898A0-DDE2-47CD-B026-869FE39D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3E176-5C28-4562-8CB3-97BB7E44F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DB9F-F4C2-41F1-87D2-FD54FA78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1F7613-F3E1-4511-9E9D-6C6BE624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BB790-EAB5-4842-AF0F-24E81E174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9470D-B6FC-4AD7-9561-2A1242FC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36E2A-A490-4D9D-AE2A-6342338B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037F0-64DA-449A-8EEA-97A4AB35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67201-8D55-429B-A950-8868C8DE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16397-EE3A-499E-AFFB-3F9AB812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117E7-59FC-40F6-A371-AD07C658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741E4-FBD7-4B58-8E1A-D1477321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3F66F-1FEF-4194-97A8-F943E871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069A-BB2F-4117-B34B-6DF7D88D9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C223F-4629-4431-8853-C35D225E7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A35F50-495D-4160-B157-C452CCBF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3CDE1-D1B3-49A2-B38D-01F0C425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64084-F231-4D28-BE4C-734F10D9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34FFF-7E71-46B8-86D1-94762E0B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F178F-6EEA-410C-8573-33B477A3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747F5-3866-4034-AD5B-FCB93DE7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00BA4-45B5-4CFD-959E-485301E3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361EE-1628-4474-A5F7-B75E247F8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B7EE4-3C96-4E80-9615-16BC6394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6D5B-BEE4-4DBE-8218-63A2753F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4E747D-6D70-4231-9AB5-614C60D4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82804-4C4C-407E-8C38-1961E1031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06F85-AADE-4B15-9285-BF4029190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66BD-10AF-41F6-8873-FB68B7AA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6517-A825-4262-B96F-34B66E78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C77D-031A-4826-AFC6-2AF91699537C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DD7D-03B8-4DBA-8B4D-219E59F8E120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C0FF-A380-4998-A4C2-58D12B792272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39AD-1F70-4BD4-9DC1-2E1B97926FE6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4CCD-DEFD-45E2-B922-48B818E5AA24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4f81bd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0504d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9bbb5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8064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fada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CCF5D-F604-48B0-BD6C-5A84A7A404A5}" type="slidenum">
              <a:rPr b="0" lang="en-US" sz="1000" spc="-1" strike="noStrike">
                <a:solidFill>
                  <a:srgbClr val="afada5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newsflash/>
    <p:sndAc>
      <p:stSnd>
        <p:snd r:embed="rId2" name="explod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O AM 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y favorite subject is reading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2" descr="C:\Program Files\Microsoft Office\MEDIA\CAGCAT10\j0299125.wmf"/>
          <p:cNvPicPr/>
          <p:nvPr/>
        </p:nvPicPr>
        <p:blipFill>
          <a:blip r:embed="rId1"/>
          <a:stretch/>
        </p:blipFill>
        <p:spPr>
          <a:xfrm>
            <a:off x="4022640" y="2525760"/>
            <a:ext cx="1098720" cy="18064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newsflash/>
    <p:sndAc>
      <p:stSnd>
        <p:snd r:embed="rId2" name="explod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O AM 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y favorite book is Holes by Louis Sachar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newsflash/>
    <p:sndAc>
      <p:stSnd>
        <p:snd r:embed="rId1" name="explod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O AM 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y favorite place is Legoland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newsflash/>
    <p:sndAc>
      <p:stSnd>
        <p:snd r:embed="rId1" name="explod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O AM 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My favorite food is pizz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newsflash/>
    <p:sndAc>
      <p:stSnd>
        <p:snd r:embed="rId1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O AM 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would like to meet Ole Kirk. The creator of leg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newsflash/>
    <p:sndAc>
      <p:stSnd>
        <p:snd r:embed="rId1" name="explod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O AM 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am afraid of  storm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newsflash/>
    <p:sndAc>
      <p:stSnd>
        <p:snd r:embed="rId1" name="explod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WHO AM I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would like to be a vetenarian when I get olde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2" descr="C:\Program Files\Microsoft Office\MEDIA\CAGCAT10\j0216724.wmf"/>
          <p:cNvPicPr/>
          <p:nvPr/>
        </p:nvPicPr>
        <p:blipFill>
          <a:blip r:embed="rId1"/>
          <a:stretch/>
        </p:blipFill>
        <p:spPr>
          <a:xfrm>
            <a:off x="3846600" y="2517840"/>
            <a:ext cx="1450800" cy="18223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newsflash/>
    <p:sndAc>
      <p:stSnd>
        <p:snd r:embed="rId2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3:28:08Z</dcterms:created>
  <dc:creator> pc#23</dc:creator>
  <dc:description/>
  <dc:language>en-US</dc:language>
  <cp:lastModifiedBy> pc#23</cp:lastModifiedBy>
  <dcterms:modified xsi:type="dcterms:W3CDTF">2009-11-12T19:55:03Z</dcterms:modified>
  <cp:revision>5</cp:revision>
  <dc:subject/>
  <dc:title>Who am I</dc:title>
</cp:coreProperties>
</file>